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wmf" ContentType="image/x-wmf"/>
  <Override PartName="/ppt/media/image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97360" y="0"/>
            <a:ext cx="298296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9736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65B5-CD40-4C88-8873-21C1064E9CC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9736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2E20-9868-4730-9379-66CB3EC43BF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9736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2A0E-66DB-47FC-B5E4-830E29B81E2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AFA-2C6E-43FB-A2A3-099ADCD3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84B-95C9-4CDC-A65F-F91556F8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F8C-DC35-44F7-9E3F-38EAB457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684-A64A-43B3-97FB-54D502F0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8B48-8F52-41F6-B1E7-BFFBDEF0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E9AC-0484-483A-9416-F11A5EB6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2E70-FA22-4F05-B216-DCFE5AAB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3AB8-EA9C-40EA-B0C8-EFDC2318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2CBE-238B-4ECF-A7D5-EE2B8655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50F9-907A-481E-AD84-0157B331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25C7-D380-4052-BB0B-A14731DE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821-0C6D-4852-A788-E487598E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86DB-14C8-4280-B5CE-4BBB2DD4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F0FF-48A5-46E2-9667-D7EF061F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CE2A-F377-43BD-8D8D-43713E84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F126-658A-47C9-A302-0AECE21A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BF66-93BF-48A3-AD45-21E59CBE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4612-9BC6-4818-85E3-45E6A563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94A9-55EF-43F7-847A-5A6BAD0C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F5926-E4A6-4D01-8092-60EE5733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D4A06-3B30-428E-9EBF-D9DBAB15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94FF-0C13-4204-8131-3F31B4B2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C18-AE60-475A-BC22-C712E60E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AC25C-E60F-4ADB-B7F0-9CF4AAFA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F1755-85E8-4090-BC8C-12D233E2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EF6F3-A135-42ED-8A07-89D74F48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D7F84-1E3A-449B-A1B8-014904E5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81ADA-9097-4AA9-8B98-7E34267A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9BB9-9C05-4D87-B456-9D4CEF6F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B82DF-5EC7-4B69-BC36-81D44819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5FC8C-0AAD-481D-9148-BEEEFF43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86C09-6DE4-475F-9EBA-E21896D1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7555C-BAD6-4F24-8569-27E25784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C09-8F1F-4986-B333-47558527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1754B-904A-4429-81D7-5F4B297E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D15A-6B35-499E-B006-19BB4838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E7050-1D19-4957-9D24-F4B882EF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56673-1A31-48B1-B40C-0F5208ED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A6A26-DE1A-4D2A-A24C-D640B6D6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427D0-AAF0-42A9-8E44-459512A1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06F2D-A3BC-4E7E-868B-4136AD43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51682-36D7-4122-8497-64EEB518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A1759-AA00-41E0-A731-4B8ECBBF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74C04-4493-4472-81D8-B000833E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8E5-A90A-4731-9FAC-8FBCD570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336AD-92BF-4CE3-AF4D-630B0F1C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3AE5C-014E-4C72-B0EF-40589629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C0C8C-192E-4053-B615-19D7C70E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C6D02-811A-45B4-A078-B66D3054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7E89E-24BA-4E84-99A8-DCB72DF9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19A17-B34C-4B7F-B6A7-56F97D4B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DA9FE-BFC9-4637-9309-E2DBAA90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2A88A-A99C-45EE-B61F-1179FDA4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0C9B7-B485-4387-B6EA-EA583A27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F9AC7-FFF1-42AF-B6CF-A4CE56C4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AC4-CC60-4254-BA79-DD1C6667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40BAE-B2A9-4092-99FC-63ABD77A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2143D-2CA9-4527-A9BD-F25B62B2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90EC1-DCC7-4EA5-929F-5D46CF6F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1E52D-F0C8-48AC-8CAA-A4E2248D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30AAB-0CE6-4257-8924-E899F71C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E8C9D-C17A-4613-81CF-B2D89237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FF209-DB20-4E02-AA9B-51AF5E8C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26EB2-379E-445B-9404-24FB4026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3D06E-71C8-49C6-A2CC-0AD7FE14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F54EC-B74C-4ED4-B9A3-E4190F8F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2F7-52E1-40F1-880F-B690D15B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F9638-C659-4775-9517-C04C81CD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B8D9C-F304-4AE2-AAF9-9FEEF644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FDDE8-5800-4D65-95D1-FA691357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8762A-D929-45DF-B46D-D17661AD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E5294-D46D-4DA6-A136-57554A60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08ADA-ECB2-4402-ADCD-A04D4C82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26B70-E48C-41BC-A0CF-D727FC3D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E772D-4F28-486D-B26C-A5B26EDF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A8FD0-492F-4B9B-9203-7E09D00E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987A0-69F1-4F52-87B6-966DE805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CB2-2551-4183-A877-42E45903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28416-D0A4-406B-858E-2F623CE4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05AC5-7561-4013-9B67-C1549478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3028D-2B63-4631-BEF8-6CBEAF5A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03C22-1133-4D55-8473-C58930E3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ED23E-B61B-49E9-B834-00D55611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FE969-ABB8-40EA-B9C4-1339081E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933E3-9E73-4B68-AF59-4F28D57D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7A62C-D5BD-47FB-8B64-3E153F22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FA64F-4714-4574-84EC-BF1136F7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AE834-0CB3-4CB8-BE53-6D4167C1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933-A910-47D9-B37D-EA408BAF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8FD86-152B-4D9C-A475-3B826A38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182C6-9CEC-41B7-80CF-3C1B64D7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703E9-8F1B-440F-85D4-8B14C2B1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6313D-1A53-435C-8290-315CA5C2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E63C2-AF15-46E5-9A7E-675C69BB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5349C-2F66-4A20-811C-255ECBD3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DE6E5-3347-4B30-9656-A7CD8476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2F4B-A8B0-4A90-9AF1-594063855F4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BFEE-9EA3-41F8-B695-1A84747C04E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247F-C490-4A4A-A279-CB2636555D6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D0DE-997E-4D4A-9D16-78EE07CDA51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C89E-6853-4702-8924-B4AB43E58DE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CF59-B100-4072-BD59-E00EE5424D1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90FE-F6F1-432C-AB2B-1953189E022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68DA-0053-45BD-8ECF-9D7444CA7B2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ample Survey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0492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as is the accuracy of a statis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ility is the reliability of a statis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-73080" y="-55440"/>
            <a:ext cx="8454960" cy="104904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 7"/>
          <p:cNvGrpSpPr/>
          <p:nvPr/>
        </p:nvGrpSpPr>
        <p:grpSpPr>
          <a:xfrm>
            <a:off x="1295280" y="1447920"/>
            <a:ext cx="6400800" cy="5329080"/>
            <a:chOff x="1295280" y="1447920"/>
            <a:chExt cx="6400800" cy="5329080"/>
          </a:xfrm>
        </p:grpSpPr>
        <p:pic>
          <p:nvPicPr>
            <p:cNvPr id="411" name="Picture 5" descr=""/>
            <p:cNvPicPr/>
            <p:nvPr/>
          </p:nvPicPr>
          <p:blipFill>
            <a:blip r:embed="rId2"/>
            <a:stretch/>
          </p:blipFill>
          <p:spPr>
            <a:xfrm>
              <a:off x="1318320" y="4166280"/>
              <a:ext cx="2856960" cy="261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3" descr=""/>
            <p:cNvPicPr/>
            <p:nvPr/>
          </p:nvPicPr>
          <p:blipFill>
            <a:blip r:embed="rId3"/>
            <a:stretch/>
          </p:blipFill>
          <p:spPr>
            <a:xfrm>
              <a:off x="1295280" y="1447920"/>
              <a:ext cx="2787120" cy="270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4" descr=""/>
            <p:cNvPicPr/>
            <p:nvPr/>
          </p:nvPicPr>
          <p:blipFill>
            <a:blip r:embed="rId4"/>
            <a:stretch/>
          </p:blipFill>
          <p:spPr>
            <a:xfrm>
              <a:off x="4632840" y="1479600"/>
              <a:ext cx="2599920" cy="267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6" descr=""/>
            <p:cNvPicPr/>
            <p:nvPr/>
          </p:nvPicPr>
          <p:blipFill>
            <a:blip r:embed="rId5"/>
            <a:stretch/>
          </p:blipFill>
          <p:spPr>
            <a:xfrm>
              <a:off x="4360680" y="4072680"/>
              <a:ext cx="3335400" cy="2704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4"/>
          <p:cNvSpPr/>
          <p:nvPr/>
        </p:nvSpPr>
        <p:spPr>
          <a:xfrm>
            <a:off x="228600" y="166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SAMPLING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228600" y="685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Different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amples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give us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228600" y="2209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Bigger samples are bet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228600" y="3048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Sampling distribution: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If we take lots of samples of the same size and make a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28600" y="1219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Different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ize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samples give us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4038480" y="4572000"/>
            <a:ext cx="381240" cy="16002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0"/>
          <p:cNvSpPr/>
          <p:nvPr/>
        </p:nvSpPr>
        <p:spPr>
          <a:xfrm>
            <a:off x="4419720" y="4800600"/>
            <a:ext cx="380880" cy="13716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1"/>
          <p:cNvSpPr/>
          <p:nvPr/>
        </p:nvSpPr>
        <p:spPr>
          <a:xfrm>
            <a:off x="3657600" y="4800600"/>
            <a:ext cx="380880" cy="13716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2"/>
          <p:cNvSpPr/>
          <p:nvPr/>
        </p:nvSpPr>
        <p:spPr>
          <a:xfrm>
            <a:off x="4800600" y="5105520"/>
            <a:ext cx="380880" cy="1066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3276720" y="5105520"/>
            <a:ext cx="380880" cy="1066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4"/>
          <p:cNvSpPr/>
          <p:nvPr/>
        </p:nvSpPr>
        <p:spPr>
          <a:xfrm>
            <a:off x="5181480" y="5562720"/>
            <a:ext cx="381240" cy="6094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5"/>
          <p:cNvSpPr/>
          <p:nvPr/>
        </p:nvSpPr>
        <p:spPr>
          <a:xfrm>
            <a:off x="2895480" y="5562720"/>
            <a:ext cx="381240" cy="6094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6"/>
          <p:cNvSpPr/>
          <p:nvPr/>
        </p:nvSpPr>
        <p:spPr>
          <a:xfrm>
            <a:off x="5562720" y="5867280"/>
            <a:ext cx="380880" cy="304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7"/>
          <p:cNvSpPr/>
          <p:nvPr/>
        </p:nvSpPr>
        <p:spPr>
          <a:xfrm>
            <a:off x="2514600" y="5867280"/>
            <a:ext cx="380880" cy="304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9"/>
          <p:cNvSpPr/>
          <p:nvPr/>
        </p:nvSpPr>
        <p:spPr>
          <a:xfrm flipV="1">
            <a:off x="41911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2819520" y="62485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2209680" y="2590920"/>
            <a:ext cx="381240" cy="16002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2590920" y="2819520"/>
            <a:ext cx="380880" cy="13716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1828800" y="2819520"/>
            <a:ext cx="380880" cy="13716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2971800" y="3124080"/>
            <a:ext cx="380880" cy="10670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447920" y="3124080"/>
            <a:ext cx="380880" cy="10670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3352680" y="3581280"/>
            <a:ext cx="381240" cy="6098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9"/>
          <p:cNvSpPr/>
          <p:nvPr/>
        </p:nvSpPr>
        <p:spPr>
          <a:xfrm>
            <a:off x="1066680" y="3581280"/>
            <a:ext cx="381240" cy="6098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3733920" y="3886200"/>
            <a:ext cx="380880" cy="304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1"/>
          <p:cNvSpPr/>
          <p:nvPr/>
        </p:nvSpPr>
        <p:spPr>
          <a:xfrm>
            <a:off x="685800" y="3886200"/>
            <a:ext cx="380880" cy="304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2"/>
          <p:cNvSpPr/>
          <p:nvPr/>
        </p:nvSpPr>
        <p:spPr>
          <a:xfrm flipV="1">
            <a:off x="2362320" y="4038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6858000" y="2590920"/>
            <a:ext cx="380880" cy="16002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7238880" y="3124080"/>
            <a:ext cx="381240" cy="10670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6477120" y="3276720"/>
            <a:ext cx="380880" cy="9144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6"/>
          <p:cNvSpPr/>
          <p:nvPr/>
        </p:nvSpPr>
        <p:spPr>
          <a:xfrm>
            <a:off x="7620120" y="3809880"/>
            <a:ext cx="380880" cy="3812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7"/>
          <p:cNvSpPr/>
          <p:nvPr/>
        </p:nvSpPr>
        <p:spPr>
          <a:xfrm>
            <a:off x="6095880" y="3657600"/>
            <a:ext cx="381240" cy="5335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2"/>
          <p:cNvSpPr/>
          <p:nvPr/>
        </p:nvSpPr>
        <p:spPr>
          <a:xfrm flipV="1">
            <a:off x="7010280" y="4038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3"/>
          <p:cNvSpPr/>
          <p:nvPr/>
        </p:nvSpPr>
        <p:spPr>
          <a:xfrm>
            <a:off x="228600" y="15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Variability = spread/width of grap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4"/>
          <p:cNvSpPr/>
          <p:nvPr/>
        </p:nvSpPr>
        <p:spPr>
          <a:xfrm>
            <a:off x="304920" y="10810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Larger samples give smaller vari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04920" y="49528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228600" y="1905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Lots of samples of size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7"/>
          <p:cNvSpPr/>
          <p:nvPr/>
        </p:nvSpPr>
        <p:spPr>
          <a:xfrm>
            <a:off x="609480" y="43434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8"/>
          <p:cNvSpPr/>
          <p:nvPr/>
        </p:nvSpPr>
        <p:spPr>
          <a:xfrm>
            <a:off x="5257800" y="43434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9"/>
          <p:cNvSpPr/>
          <p:nvPr/>
        </p:nvSpPr>
        <p:spPr>
          <a:xfrm>
            <a:off x="5181480" y="1905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</a:rPr>
              <a:t>Lots of samples of size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0"/>
          <p:cNvSpPr/>
          <p:nvPr/>
        </p:nvSpPr>
        <p:spPr>
          <a:xfrm>
            <a:off x="4114800" y="4038480"/>
            <a:ext cx="380880" cy="1526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304920" y="4038480"/>
            <a:ext cx="380880" cy="1526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3"/>
          <p:cNvSpPr/>
          <p:nvPr/>
        </p:nvSpPr>
        <p:spPr>
          <a:xfrm>
            <a:off x="15228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Label each as high or low for bias and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"/>
          <p:cNvGrpSpPr/>
          <p:nvPr/>
        </p:nvGrpSpPr>
        <p:grpSpPr>
          <a:xfrm>
            <a:off x="1066680" y="838080"/>
            <a:ext cx="4572000" cy="2166120"/>
            <a:chOff x="1066680" y="838080"/>
            <a:chExt cx="4572000" cy="2166120"/>
          </a:xfrm>
        </p:grpSpPr>
        <p:sp>
          <p:nvSpPr>
            <p:cNvPr id="458" name="Rectangle 3"/>
            <p:cNvSpPr/>
            <p:nvPr/>
          </p:nvSpPr>
          <p:spPr>
            <a:xfrm>
              <a:off x="4114800" y="838080"/>
              <a:ext cx="380880" cy="16002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5"/>
            <p:cNvSpPr/>
            <p:nvPr/>
          </p:nvSpPr>
          <p:spPr>
            <a:xfrm>
              <a:off x="3733560" y="1066680"/>
              <a:ext cx="380880" cy="13716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"/>
            <p:cNvSpPr/>
            <p:nvPr/>
          </p:nvSpPr>
          <p:spPr>
            <a:xfrm>
              <a:off x="4495680" y="1371240"/>
              <a:ext cx="380880" cy="10666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4876920" y="1828800"/>
              <a:ext cx="380880" cy="6094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3352680" y="1828800"/>
              <a:ext cx="380880" cy="6094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2971800" y="2133720"/>
              <a:ext cx="380880" cy="304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27"/>
            <p:cNvSpPr/>
            <p:nvPr/>
          </p:nvSpPr>
          <p:spPr>
            <a:xfrm>
              <a:off x="1066680" y="2666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30"/>
            <p:cNvSpPr/>
            <p:nvPr/>
          </p:nvSpPr>
          <p:spPr>
            <a:xfrm>
              <a:off x="5257800" y="2286000"/>
              <a:ext cx="380880" cy="1522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2590560" y="2286000"/>
              <a:ext cx="380880" cy="1522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2"/>
            <p:cNvSpPr/>
            <p:nvPr/>
          </p:nvSpPr>
          <p:spPr>
            <a:xfrm flipV="1">
              <a:off x="274320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53"/>
          <p:cNvGrpSpPr/>
          <p:nvPr/>
        </p:nvGrpSpPr>
        <p:grpSpPr>
          <a:xfrm>
            <a:off x="304920" y="3809880"/>
            <a:ext cx="7924680" cy="2090160"/>
            <a:chOff x="304920" y="3809880"/>
            <a:chExt cx="7924680" cy="2090160"/>
          </a:xfrm>
        </p:grpSpPr>
        <p:sp>
          <p:nvSpPr>
            <p:cNvPr id="469" name="Text Box 25"/>
            <p:cNvSpPr/>
            <p:nvPr/>
          </p:nvSpPr>
          <p:spPr>
            <a:xfrm>
              <a:off x="304920" y="4952880"/>
              <a:ext cx="4038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30"/>
            <p:cNvSpPr/>
            <p:nvPr/>
          </p:nvSpPr>
          <p:spPr>
            <a:xfrm>
              <a:off x="4038480" y="3809880"/>
              <a:ext cx="380880" cy="1600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32"/>
            <p:cNvSpPr/>
            <p:nvPr/>
          </p:nvSpPr>
          <p:spPr>
            <a:xfrm>
              <a:off x="3657600" y="4038480"/>
              <a:ext cx="380880" cy="13719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34"/>
            <p:cNvSpPr/>
            <p:nvPr/>
          </p:nvSpPr>
          <p:spPr>
            <a:xfrm>
              <a:off x="3276720" y="4343400"/>
              <a:ext cx="380880" cy="106704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36"/>
            <p:cNvSpPr/>
            <p:nvPr/>
          </p:nvSpPr>
          <p:spPr>
            <a:xfrm>
              <a:off x="2514600" y="4800600"/>
              <a:ext cx="380880" cy="6094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8"/>
            <p:cNvSpPr/>
            <p:nvPr/>
          </p:nvSpPr>
          <p:spPr>
            <a:xfrm>
              <a:off x="1371600" y="5105520"/>
              <a:ext cx="380880" cy="304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2"/>
            <p:cNvSpPr/>
            <p:nvPr/>
          </p:nvSpPr>
          <p:spPr>
            <a:xfrm flipV="1">
              <a:off x="4267440" y="525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7"/>
            <p:cNvSpPr/>
            <p:nvPr/>
          </p:nvSpPr>
          <p:spPr>
            <a:xfrm>
              <a:off x="2514600" y="5562720"/>
              <a:ext cx="373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1"/>
            <p:cNvSpPr/>
            <p:nvPr/>
          </p:nvSpPr>
          <p:spPr>
            <a:xfrm>
              <a:off x="609480" y="5257800"/>
              <a:ext cx="380880" cy="1522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52"/>
            <p:cNvGrpSpPr/>
            <p:nvPr/>
          </p:nvGrpSpPr>
          <p:grpSpPr>
            <a:xfrm>
              <a:off x="4800600" y="4038480"/>
              <a:ext cx="3429000" cy="1371960"/>
              <a:chOff x="4800600" y="4038480"/>
              <a:chExt cx="3429000" cy="1371960"/>
            </a:xfrm>
          </p:grpSpPr>
          <p:sp>
            <p:nvSpPr>
              <p:cNvPr id="479" name="Rectangle 31"/>
              <p:cNvSpPr/>
              <p:nvPr/>
            </p:nvSpPr>
            <p:spPr>
              <a:xfrm>
                <a:off x="4800600" y="4038480"/>
                <a:ext cx="380880" cy="13719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33"/>
              <p:cNvSpPr/>
              <p:nvPr/>
            </p:nvSpPr>
            <p:spPr>
              <a:xfrm>
                <a:off x="5943600" y="4343400"/>
                <a:ext cx="380880" cy="106704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35"/>
              <p:cNvSpPr/>
              <p:nvPr/>
            </p:nvSpPr>
            <p:spPr>
              <a:xfrm>
                <a:off x="6705720" y="4800600"/>
                <a:ext cx="380880" cy="60984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37"/>
              <p:cNvSpPr/>
              <p:nvPr/>
            </p:nvSpPr>
            <p:spPr>
              <a:xfrm>
                <a:off x="7467840" y="5105520"/>
                <a:ext cx="380880" cy="30492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30"/>
              <p:cNvSpPr/>
              <p:nvPr/>
            </p:nvSpPr>
            <p:spPr>
              <a:xfrm>
                <a:off x="7848720" y="5258160"/>
                <a:ext cx="380880" cy="15228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43"/>
              <p:cNvSpPr/>
              <p:nvPr/>
            </p:nvSpPr>
            <p:spPr>
              <a:xfrm>
                <a:off x="7086600" y="5105520"/>
                <a:ext cx="380880" cy="30492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44"/>
              <p:cNvSpPr/>
              <p:nvPr/>
            </p:nvSpPr>
            <p:spPr>
              <a:xfrm>
                <a:off x="6324480" y="4800600"/>
                <a:ext cx="380880" cy="60984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45"/>
              <p:cNvSpPr/>
              <p:nvPr/>
            </p:nvSpPr>
            <p:spPr>
              <a:xfrm>
                <a:off x="5562360" y="4343400"/>
                <a:ext cx="380880" cy="106704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46"/>
              <p:cNvSpPr/>
              <p:nvPr/>
            </p:nvSpPr>
            <p:spPr>
              <a:xfrm>
                <a:off x="5181480" y="4038480"/>
                <a:ext cx="380880" cy="13719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Rectangle 31"/>
            <p:cNvSpPr/>
            <p:nvPr/>
          </p:nvSpPr>
          <p:spPr>
            <a:xfrm>
              <a:off x="990720" y="5257800"/>
              <a:ext cx="380880" cy="1522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8"/>
            <p:cNvSpPr/>
            <p:nvPr/>
          </p:nvSpPr>
          <p:spPr>
            <a:xfrm>
              <a:off x="1752480" y="5105520"/>
              <a:ext cx="380880" cy="304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9"/>
            <p:cNvSpPr/>
            <p:nvPr/>
          </p:nvSpPr>
          <p:spPr>
            <a:xfrm>
              <a:off x="2133720" y="4800600"/>
              <a:ext cx="380880" cy="6094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50"/>
            <p:cNvSpPr/>
            <p:nvPr/>
          </p:nvSpPr>
          <p:spPr>
            <a:xfrm>
              <a:off x="2895480" y="4343400"/>
              <a:ext cx="380880" cy="106704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51"/>
            <p:cNvSpPr/>
            <p:nvPr/>
          </p:nvSpPr>
          <p:spPr>
            <a:xfrm>
              <a:off x="4419720" y="3809880"/>
              <a:ext cx="380880" cy="1600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3"/>
          <p:cNvSpPr/>
          <p:nvPr/>
        </p:nvSpPr>
        <p:spPr>
          <a:xfrm>
            <a:off x="15228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Label each as high or low for bias and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5"/>
          <p:cNvSpPr/>
          <p:nvPr/>
        </p:nvSpPr>
        <p:spPr>
          <a:xfrm>
            <a:off x="304920" y="49528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36"/>
          <p:cNvGrpSpPr/>
          <p:nvPr/>
        </p:nvGrpSpPr>
        <p:grpSpPr>
          <a:xfrm>
            <a:off x="2514600" y="3809880"/>
            <a:ext cx="3733920" cy="2090160"/>
            <a:chOff x="2514600" y="3809880"/>
            <a:chExt cx="3733920" cy="2090160"/>
          </a:xfrm>
        </p:grpSpPr>
        <p:sp>
          <p:nvSpPr>
            <p:cNvPr id="496" name="Rectangle 30"/>
            <p:cNvSpPr/>
            <p:nvPr/>
          </p:nvSpPr>
          <p:spPr>
            <a:xfrm>
              <a:off x="4114800" y="3809880"/>
              <a:ext cx="380880" cy="16002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31"/>
            <p:cNvSpPr/>
            <p:nvPr/>
          </p:nvSpPr>
          <p:spPr>
            <a:xfrm>
              <a:off x="4495680" y="4038480"/>
              <a:ext cx="381240" cy="13716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34"/>
            <p:cNvSpPr/>
            <p:nvPr/>
          </p:nvSpPr>
          <p:spPr>
            <a:xfrm>
              <a:off x="3733920" y="4343400"/>
              <a:ext cx="380880" cy="10666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35"/>
            <p:cNvSpPr/>
            <p:nvPr/>
          </p:nvSpPr>
          <p:spPr>
            <a:xfrm>
              <a:off x="4876920" y="4800600"/>
              <a:ext cx="380880" cy="6094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3352680" y="5105520"/>
              <a:ext cx="381240" cy="304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 flipV="1">
              <a:off x="4267080" y="525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7"/>
            <p:cNvSpPr/>
            <p:nvPr/>
          </p:nvSpPr>
          <p:spPr>
            <a:xfrm>
              <a:off x="2514600" y="556272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30"/>
            <p:cNvSpPr/>
            <p:nvPr/>
          </p:nvSpPr>
          <p:spPr>
            <a:xfrm>
              <a:off x="5257800" y="5257800"/>
              <a:ext cx="380880" cy="1522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Text Box 25"/>
          <p:cNvSpPr/>
          <p:nvPr/>
        </p:nvSpPr>
        <p:spPr>
          <a:xfrm>
            <a:off x="304920" y="228600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5"/>
          <p:cNvSpPr/>
          <p:nvPr/>
        </p:nvSpPr>
        <p:spPr>
          <a:xfrm>
            <a:off x="4038480" y="1143000"/>
            <a:ext cx="381240" cy="16002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6"/>
          <p:cNvSpPr/>
          <p:nvPr/>
        </p:nvSpPr>
        <p:spPr>
          <a:xfrm>
            <a:off x="3657600" y="1371600"/>
            <a:ext cx="380880" cy="13716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7"/>
          <p:cNvSpPr/>
          <p:nvPr/>
        </p:nvSpPr>
        <p:spPr>
          <a:xfrm>
            <a:off x="3276720" y="1676520"/>
            <a:ext cx="380880" cy="1066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8"/>
          <p:cNvSpPr/>
          <p:nvPr/>
        </p:nvSpPr>
        <p:spPr>
          <a:xfrm>
            <a:off x="2514600" y="2133720"/>
            <a:ext cx="380880" cy="6094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9"/>
          <p:cNvSpPr/>
          <p:nvPr/>
        </p:nvSpPr>
        <p:spPr>
          <a:xfrm>
            <a:off x="1371600" y="2438280"/>
            <a:ext cx="380880" cy="304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7"/>
          <p:cNvSpPr/>
          <p:nvPr/>
        </p:nvSpPr>
        <p:spPr>
          <a:xfrm>
            <a:off x="5486400" y="28954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Sans"/>
              </a:rPr>
              <a:t>True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1"/>
          <p:cNvSpPr/>
          <p:nvPr/>
        </p:nvSpPr>
        <p:spPr>
          <a:xfrm>
            <a:off x="609480" y="2590920"/>
            <a:ext cx="381240" cy="1522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52"/>
          <p:cNvGrpSpPr/>
          <p:nvPr/>
        </p:nvGrpSpPr>
        <p:grpSpPr>
          <a:xfrm>
            <a:off x="4800600" y="1371600"/>
            <a:ext cx="3429000" cy="1371600"/>
            <a:chOff x="4800600" y="1371600"/>
            <a:chExt cx="3429000" cy="1371600"/>
          </a:xfrm>
        </p:grpSpPr>
        <p:sp>
          <p:nvSpPr>
            <p:cNvPr id="513" name="Rectangle 59"/>
            <p:cNvSpPr/>
            <p:nvPr/>
          </p:nvSpPr>
          <p:spPr>
            <a:xfrm>
              <a:off x="4800600" y="1371600"/>
              <a:ext cx="380880" cy="13716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0"/>
            <p:cNvSpPr/>
            <p:nvPr/>
          </p:nvSpPr>
          <p:spPr>
            <a:xfrm>
              <a:off x="5943600" y="1676160"/>
              <a:ext cx="380880" cy="106704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61"/>
            <p:cNvSpPr/>
            <p:nvPr/>
          </p:nvSpPr>
          <p:spPr>
            <a:xfrm>
              <a:off x="6705720" y="2133720"/>
              <a:ext cx="380880" cy="6094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62"/>
            <p:cNvSpPr/>
            <p:nvPr/>
          </p:nvSpPr>
          <p:spPr>
            <a:xfrm>
              <a:off x="7467840" y="2438640"/>
              <a:ext cx="380880" cy="304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30"/>
            <p:cNvSpPr/>
            <p:nvPr/>
          </p:nvSpPr>
          <p:spPr>
            <a:xfrm>
              <a:off x="7848720" y="2590920"/>
              <a:ext cx="380880" cy="1522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64"/>
            <p:cNvSpPr/>
            <p:nvPr/>
          </p:nvSpPr>
          <p:spPr>
            <a:xfrm>
              <a:off x="7086600" y="2438640"/>
              <a:ext cx="380880" cy="304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65"/>
            <p:cNvSpPr/>
            <p:nvPr/>
          </p:nvSpPr>
          <p:spPr>
            <a:xfrm>
              <a:off x="6324480" y="2133720"/>
              <a:ext cx="380880" cy="6094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66"/>
            <p:cNvSpPr/>
            <p:nvPr/>
          </p:nvSpPr>
          <p:spPr>
            <a:xfrm>
              <a:off x="5562360" y="1676160"/>
              <a:ext cx="380880" cy="106704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67"/>
            <p:cNvSpPr/>
            <p:nvPr/>
          </p:nvSpPr>
          <p:spPr>
            <a:xfrm>
              <a:off x="5181480" y="1371600"/>
              <a:ext cx="380880" cy="13716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Rectangle 31"/>
          <p:cNvSpPr/>
          <p:nvPr/>
        </p:nvSpPr>
        <p:spPr>
          <a:xfrm>
            <a:off x="990720" y="2590920"/>
            <a:ext cx="380880" cy="1522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5"/>
          <p:cNvSpPr/>
          <p:nvPr/>
        </p:nvSpPr>
        <p:spPr>
          <a:xfrm>
            <a:off x="1752480" y="2438280"/>
            <a:ext cx="381240" cy="304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6"/>
          <p:cNvSpPr/>
          <p:nvPr/>
        </p:nvSpPr>
        <p:spPr>
          <a:xfrm>
            <a:off x="2133720" y="2133720"/>
            <a:ext cx="380880" cy="6094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57"/>
          <p:cNvSpPr/>
          <p:nvPr/>
        </p:nvSpPr>
        <p:spPr>
          <a:xfrm>
            <a:off x="2895480" y="1676520"/>
            <a:ext cx="381240" cy="1066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8"/>
          <p:cNvSpPr/>
          <p:nvPr/>
        </p:nvSpPr>
        <p:spPr>
          <a:xfrm>
            <a:off x="4419720" y="1143000"/>
            <a:ext cx="380880" cy="16002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2"/>
          <p:cNvSpPr/>
          <p:nvPr/>
        </p:nvSpPr>
        <p:spPr>
          <a:xfrm flipV="1">
            <a:off x="72388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vocab word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biased Estimat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304920" y="1752480"/>
            <a:ext cx="8686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When the center of a sampl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histogram) is equal to the true paramet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53"/>
          <p:cNvGrpSpPr/>
          <p:nvPr/>
        </p:nvGrpSpPr>
        <p:grpSpPr>
          <a:xfrm>
            <a:off x="152280" y="3048120"/>
            <a:ext cx="6172200" cy="1807560"/>
            <a:chOff x="152280" y="3048120"/>
            <a:chExt cx="6172200" cy="1807560"/>
          </a:xfrm>
        </p:grpSpPr>
        <p:sp>
          <p:nvSpPr>
            <p:cNvPr id="531" name="Text Box 25"/>
            <p:cNvSpPr/>
            <p:nvPr/>
          </p:nvSpPr>
          <p:spPr>
            <a:xfrm>
              <a:off x="152280" y="4006800"/>
              <a:ext cx="3144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30"/>
            <p:cNvSpPr/>
            <p:nvPr/>
          </p:nvSpPr>
          <p:spPr>
            <a:xfrm>
              <a:off x="3060360" y="3048120"/>
              <a:ext cx="296640" cy="134244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32"/>
            <p:cNvSpPr/>
            <p:nvPr/>
          </p:nvSpPr>
          <p:spPr>
            <a:xfrm>
              <a:off x="2763720" y="3239640"/>
              <a:ext cx="296640" cy="1150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34"/>
            <p:cNvSpPr/>
            <p:nvPr/>
          </p:nvSpPr>
          <p:spPr>
            <a:xfrm>
              <a:off x="2466720" y="3495600"/>
              <a:ext cx="296640" cy="8949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36"/>
            <p:cNvSpPr/>
            <p:nvPr/>
          </p:nvSpPr>
          <p:spPr>
            <a:xfrm>
              <a:off x="1873440" y="3879000"/>
              <a:ext cx="296640" cy="5112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38"/>
            <p:cNvSpPr/>
            <p:nvPr/>
          </p:nvSpPr>
          <p:spPr>
            <a:xfrm>
              <a:off x="983160" y="4134960"/>
              <a:ext cx="296640" cy="2556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2"/>
            <p:cNvSpPr/>
            <p:nvPr/>
          </p:nvSpPr>
          <p:spPr>
            <a:xfrm flipV="1">
              <a:off x="3238560" y="4262400"/>
              <a:ext cx="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27"/>
            <p:cNvSpPr/>
            <p:nvPr/>
          </p:nvSpPr>
          <p:spPr>
            <a:xfrm>
              <a:off x="1873080" y="4518360"/>
              <a:ext cx="290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31"/>
            <p:cNvSpPr/>
            <p:nvPr/>
          </p:nvSpPr>
          <p:spPr>
            <a:xfrm>
              <a:off x="389520" y="4262760"/>
              <a:ext cx="296640" cy="1278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52"/>
            <p:cNvGrpSpPr/>
            <p:nvPr/>
          </p:nvGrpSpPr>
          <p:grpSpPr>
            <a:xfrm>
              <a:off x="3654000" y="3239640"/>
              <a:ext cx="2670480" cy="1150560"/>
              <a:chOff x="3654000" y="3239640"/>
              <a:chExt cx="2670480" cy="1150560"/>
            </a:xfrm>
          </p:grpSpPr>
          <p:sp>
            <p:nvSpPr>
              <p:cNvPr id="541" name="Rectangle 31"/>
              <p:cNvSpPr/>
              <p:nvPr/>
            </p:nvSpPr>
            <p:spPr>
              <a:xfrm>
                <a:off x="3654000" y="3239640"/>
                <a:ext cx="296640" cy="11505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"/>
              <p:cNvSpPr/>
              <p:nvPr/>
            </p:nvSpPr>
            <p:spPr>
              <a:xfrm>
                <a:off x="4543920" y="3495240"/>
                <a:ext cx="296640" cy="8949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35"/>
              <p:cNvSpPr/>
              <p:nvPr/>
            </p:nvSpPr>
            <p:spPr>
              <a:xfrm>
                <a:off x="5137560" y="3879000"/>
                <a:ext cx="296640" cy="51120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7"/>
              <p:cNvSpPr/>
              <p:nvPr/>
            </p:nvSpPr>
            <p:spPr>
              <a:xfrm>
                <a:off x="5731200" y="4134600"/>
                <a:ext cx="296640" cy="25560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0"/>
              <p:cNvSpPr/>
              <p:nvPr/>
            </p:nvSpPr>
            <p:spPr>
              <a:xfrm>
                <a:off x="6027840" y="4262400"/>
                <a:ext cx="296640" cy="12780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43"/>
              <p:cNvSpPr/>
              <p:nvPr/>
            </p:nvSpPr>
            <p:spPr>
              <a:xfrm>
                <a:off x="5434200" y="4134600"/>
                <a:ext cx="296640" cy="25560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44"/>
              <p:cNvSpPr/>
              <p:nvPr/>
            </p:nvSpPr>
            <p:spPr>
              <a:xfrm>
                <a:off x="4840920" y="3879000"/>
                <a:ext cx="296640" cy="51120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45"/>
              <p:cNvSpPr/>
              <p:nvPr/>
            </p:nvSpPr>
            <p:spPr>
              <a:xfrm>
                <a:off x="4247280" y="3495240"/>
                <a:ext cx="296640" cy="8949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46"/>
              <p:cNvSpPr/>
              <p:nvPr/>
            </p:nvSpPr>
            <p:spPr>
              <a:xfrm>
                <a:off x="3950640" y="3239640"/>
                <a:ext cx="296640" cy="11505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Rectangle 31"/>
            <p:cNvSpPr/>
            <p:nvPr/>
          </p:nvSpPr>
          <p:spPr>
            <a:xfrm>
              <a:off x="686160" y="4262760"/>
              <a:ext cx="296640" cy="1278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48"/>
            <p:cNvSpPr/>
            <p:nvPr/>
          </p:nvSpPr>
          <p:spPr>
            <a:xfrm>
              <a:off x="1279800" y="4134960"/>
              <a:ext cx="296640" cy="2556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49"/>
            <p:cNvSpPr/>
            <p:nvPr/>
          </p:nvSpPr>
          <p:spPr>
            <a:xfrm>
              <a:off x="1576440" y="3879000"/>
              <a:ext cx="296640" cy="5112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50"/>
            <p:cNvSpPr/>
            <p:nvPr/>
          </p:nvSpPr>
          <p:spPr>
            <a:xfrm>
              <a:off x="2170080" y="3495600"/>
              <a:ext cx="296640" cy="8949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51"/>
            <p:cNvSpPr/>
            <p:nvPr/>
          </p:nvSpPr>
          <p:spPr>
            <a:xfrm>
              <a:off x="3357000" y="3048120"/>
              <a:ext cx="296640" cy="134244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30"/>
          <p:cNvGrpSpPr/>
          <p:nvPr/>
        </p:nvGrpSpPr>
        <p:grpSpPr>
          <a:xfrm>
            <a:off x="5638680" y="4616280"/>
            <a:ext cx="3733920" cy="2090160"/>
            <a:chOff x="5638680" y="4616280"/>
            <a:chExt cx="3733920" cy="2090160"/>
          </a:xfrm>
        </p:grpSpPr>
        <p:sp>
          <p:nvSpPr>
            <p:cNvPr id="556" name="Rectangle 30"/>
            <p:cNvSpPr/>
            <p:nvPr/>
          </p:nvSpPr>
          <p:spPr>
            <a:xfrm>
              <a:off x="7238880" y="4616280"/>
              <a:ext cx="380880" cy="16002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31"/>
            <p:cNvSpPr/>
            <p:nvPr/>
          </p:nvSpPr>
          <p:spPr>
            <a:xfrm>
              <a:off x="7619760" y="4844880"/>
              <a:ext cx="381240" cy="137160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34"/>
            <p:cNvSpPr/>
            <p:nvPr/>
          </p:nvSpPr>
          <p:spPr>
            <a:xfrm>
              <a:off x="6858000" y="5149800"/>
              <a:ext cx="380880" cy="10666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5"/>
            <p:cNvSpPr/>
            <p:nvPr/>
          </p:nvSpPr>
          <p:spPr>
            <a:xfrm>
              <a:off x="8001000" y="5607000"/>
              <a:ext cx="380880" cy="6094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8"/>
            <p:cNvSpPr/>
            <p:nvPr/>
          </p:nvSpPr>
          <p:spPr>
            <a:xfrm>
              <a:off x="6476760" y="5911920"/>
              <a:ext cx="381240" cy="3045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2"/>
            <p:cNvSpPr/>
            <p:nvPr/>
          </p:nvSpPr>
          <p:spPr>
            <a:xfrm flipV="1">
              <a:off x="7391160" y="6064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27"/>
            <p:cNvSpPr/>
            <p:nvPr/>
          </p:nvSpPr>
          <p:spPr>
            <a:xfrm>
              <a:off x="5638680" y="636912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Lucida Sans"/>
                </a:rPr>
                <a:t>True para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8381880" y="6064200"/>
              <a:ext cx="380880" cy="15228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0492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AMPLING DESIG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HOW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o sample a population)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304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GOOD Sampling Design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1) Simple Random Sample  (SRS) -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very experimental unit has the same chance of being picked for the sample and every possible sample has the same chance of being select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Content Placeholder 1"/>
          <p:cNvSpPr/>
          <p:nvPr/>
        </p:nvSpPr>
        <p:spPr>
          <a:xfrm>
            <a:off x="380880" y="26668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ive every subject in the population a num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Use the table of random digits and read across to select your sam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gnore repeats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380880" y="152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380880" y="8380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ake an SRS of 5 from the following list.  Start at line 31 i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380880" y="2065320"/>
            <a:ext cx="914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mith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Jone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ollo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eNizzo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avi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d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chaefer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ray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p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eyer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ingrich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etrich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orelan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alsh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hitter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Jor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380880" y="152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380880" y="8380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ake an SRS of 4 from the following list.  Start at line 18 i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380880" y="2065320"/>
            <a:ext cx="853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cGlon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cCuen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i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zarko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ellavanc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ood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totler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Kelly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he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immin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rden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cNe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emgnani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’Brien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obi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orenz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k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ain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opulation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ll exp. units that you want to make a conclusion abo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ampling frame –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st of individuals from whom the sample is drawn. Not always the population of interest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amples: phone book, registered voter list, list of tax returns, school roster, 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ample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mall group of the population that you do an experiment/study 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1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2) Stratified Random Sample-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(not S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"/>
          <p:cNvSpPr/>
          <p:nvPr/>
        </p:nvSpPr>
        <p:spPr>
          <a:xfrm>
            <a:off x="228600" y="10666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* Divide population into groups with something in common (called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TR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ample: gender, ag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"/>
          <p:cNvSpPr/>
          <p:nvPr/>
        </p:nvSpPr>
        <p:spPr>
          <a:xfrm>
            <a:off x="228600" y="2895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* Take separate SRS in each strata and combine these to make the full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- can sometimes be a % of each str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want to take an accurate sample of CB South students.  There are 540 sophomores, 585 juniors, and 530 seniors.   Take a stratified random sample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3) Systematic Random Sample –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first exp. unit is selected at random. Each additional exp. unit is selected at a predetermined interval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762120" y="2133720"/>
            <a:ext cx="8001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rveying every 5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person that walks thru the back door of CB South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lecting a random person to start with (like person #4) and then taking every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person on the list after that (person #14, person #24, person #34, etc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4) Cluster Sample –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opulation is broken into groups. All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embers in one or more groups are taken as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sampl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5) Multistage Sample - 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Used for large population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Example: sampling the population of the US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government wants to survey the entire population.  However they cannot just give every person a number and do an SRS.  So they follow this proces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457200" y="2590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 Randomly select 5 counties from each st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457200" y="32004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 In each of those counties, randomly select 6 towns/cit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457200" y="42670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 In each town/city, randomly select 4 stree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 On each street, select 3 houses, and interview the head of the household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457200" y="76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BIASED SAMPLING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457200" y="868320"/>
            <a:ext cx="8305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1) Voluntary Respons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hooses itself by responding to a general app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all-in, write-i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457200" y="4419720"/>
            <a:ext cx="8305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2) Convenienc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lecting individuals that are the easiest to reach/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52280" y="76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JUST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304920" y="6858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 need to survey a random sample of 30 passengers on a flight from San Francisco to Tokyo.  Name each sampling method described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76320" y="2451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ick every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passenger that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76320" y="2981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rom the boarding list, randomly choose 5 people flying first class, and 25 of the other passe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76320" y="3962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andomly generate 30 seat numbers and survey the passengers who sit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76320" y="4952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andomly select a seat position (right window,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eft window, right aisle, etc.) and survey all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eople in those s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1"/>
          <p:cNvSpPr/>
          <p:nvPr/>
        </p:nvSpPr>
        <p:spPr>
          <a:xfrm>
            <a:off x="228600" y="324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ing Rectangles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W answer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8) (a) population = all Americans?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b) parameter = true percent of people who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want marijuana legalized for medicinal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reason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c) sampling frame = people who visit the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websit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d) sample = all people who responded to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e question on the websit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e) method = voluntary response sampl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f) biases = voluntary response bia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undercoverage- not everyone visits the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te and sees the quest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10) (a) population = all voters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b) parameter = issues that voters are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interested i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c) sampling frame = blocks in the city’s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election district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d) sample = all residents that the staff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members can find that day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e) method = stratified, then convenience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within each strata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f) biases = voluntary response bia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nonresponse bia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3049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◦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aramet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Describes the pop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Fixed Valu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Often Unknow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◦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tatis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Describes the sample of a pop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Changes from sample to samp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Use the statistics from repeated samples to estimate the value of the parame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4"/>
          <p:cNvSpPr/>
          <p:nvPr/>
        </p:nvSpPr>
        <p:spPr>
          <a:xfrm>
            <a:off x="0" y="76320"/>
            <a:ext cx="883908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2) (a) population = all cars on the roa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parameter = (10%) true % of cars withou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d registratio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urance, and safe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) sampling frame = cars that pass thru 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adbl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 sample = the cars they st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) method = convenience s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) biases = not random time of day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tion may not be representat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all cars on the road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-360" y="1522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14) (a) population = all dairy farms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b) parameter = % with contaminants in them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c) sampling frame = all dairy farms?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d) sample = the farms visited by insp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e) method = ?  SRS?  Or multistage?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f) biases = none, as long as farms ar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randomly selected and so is th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milk that is tested at each farm.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52280" y="76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Last vocab…  types of BIAS in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76320" y="2362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ample: Telephone polls, registered voter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lis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76320" y="3505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Non-response-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ias introduced when a large amount </a:t>
            </a: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of those sampled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do not respo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76320" y="4952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ample: people don’t answer phone, don’t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mail back questionnaires, refuse to answer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76320" y="6858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Undercoverag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ampling in a way that leaves out a certain portion of the population that should be in your s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3"/>
          <p:cNvSpPr/>
          <p:nvPr/>
        </p:nvSpPr>
        <p:spPr>
          <a:xfrm>
            <a:off x="0" y="213372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respondents 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responses trying to please the inter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unwillingness to reveal personal facts or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leading or confus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76320" y="2286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Response Bia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ything in the survey design that influences the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1"/>
          <p:cNvSpPr/>
          <p:nvPr/>
        </p:nvSpPr>
        <p:spPr>
          <a:xfrm>
            <a:off x="304920" y="2286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89 #15, 16, 17, 20, 22, 23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304920" y="457200"/>
          <a:ext cx="8229600" cy="2286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tat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tandard Dev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opor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Object 2"/>
          <p:cNvGraphicFramePr/>
          <p:nvPr/>
        </p:nvGraphicFramePr>
        <p:xfrm>
          <a:off x="3733920" y="1143000"/>
          <a:ext cx="3524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143000"/>
                    <a:ext cx="352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3"/>
          <p:cNvGraphicFramePr/>
          <p:nvPr/>
        </p:nvGraphicFramePr>
        <p:xfrm>
          <a:off x="6477120" y="1143000"/>
          <a:ext cx="32364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43000"/>
                    <a:ext cx="323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4"/>
          <p:cNvGraphicFramePr/>
          <p:nvPr/>
        </p:nvGraphicFramePr>
        <p:xfrm>
          <a:off x="3733920" y="1676520"/>
          <a:ext cx="352440" cy="32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1676520"/>
                    <a:ext cx="35244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6"/>
          <p:cNvGraphicFramePr/>
          <p:nvPr/>
        </p:nvGraphicFramePr>
        <p:xfrm>
          <a:off x="6477120" y="1752480"/>
          <a:ext cx="263520" cy="32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1752480"/>
                    <a:ext cx="263520" cy="3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7"/>
          <p:cNvGraphicFramePr/>
          <p:nvPr/>
        </p:nvGraphicFramePr>
        <p:xfrm>
          <a:off x="3733920" y="2362320"/>
          <a:ext cx="35244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2362320"/>
                    <a:ext cx="352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8"/>
          <p:cNvGraphicFramePr/>
          <p:nvPr/>
        </p:nvGraphicFramePr>
        <p:xfrm>
          <a:off x="6477120" y="2286000"/>
          <a:ext cx="352440" cy="49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4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2286000"/>
                    <a:ext cx="35244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Rectangle 8"/>
          <p:cNvSpPr/>
          <p:nvPr/>
        </p:nvSpPr>
        <p:spPr>
          <a:xfrm>
            <a:off x="457200" y="335268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ample is said to b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presentativ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f the statistics accurately reflect the population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XAMPLE  1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A polling agency takes a sample of 1500 American citizens from a list of tax returns and asks them if they are lactose intolerant. 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12%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ay yes.  This is interesting, since it has been shown that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15%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of the population is lactose intolera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12% = _________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15% = __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opulation?  Sampling frame?  Sampl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"/>
          <p:cNvSpPr/>
          <p:nvPr/>
        </p:nvSpPr>
        <p:spPr>
          <a:xfrm>
            <a:off x="380880" y="304920"/>
            <a:ext cx="8382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 random sample of 1000 people who signed a card saying they intended to quit smoking were contacted a year after they signed the card.  It turned out that 210 (21%) of the sampled individuals had not smoked over the past six month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21% = _________   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Populatio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Sampling frame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Sample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Parameter of interest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380880" y="457200"/>
            <a:ext cx="8382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AMPLE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On Tuesday, the bottles of tomato ketchup filled in a plant were supposed to contain an average of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4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ounces of ketchup.  Quality control inspectors sampled 50 bottles at random from the day’s production.  These bottles contained an average of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3.8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ounces of ketchu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14 = _________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13.8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Population?  Sample?  Sampling fra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380880" y="457200"/>
            <a:ext cx="8382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AMPLE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A researcher wants to find out which of two pain relievers works better.  He takes 100 volunteers and randomly gives half of them medicine #1 and the other half medicine #2. 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17%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of people taking medicine 1 report improvement in their pain and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20%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of people taking medicine #2 report improvement in their pai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17% = _________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20% =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Population?  Sampling frame?  Samp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533520" y="24300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Some more vocab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Bias vs. Vari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533520" y="152244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Bias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consistent, repeated measurements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that are not close to the population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533520" y="306216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Variability-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 basically like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533520" y="152280"/>
            <a:ext cx="79246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533520" y="4419720"/>
            <a:ext cx="79246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533520" y="4724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To reduce bias… use random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533520" y="5486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To reduce variability… use larger sampl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533520" y="36576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* We want to keep both of these l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0:16:54Z</dcterms:created>
  <dc:creator>PWHEELES</dc:creator>
  <dc:description/>
  <dc:language>en-US</dc:language>
  <cp:lastModifiedBy>Lauren Senske</cp:lastModifiedBy>
  <dcterms:modified xsi:type="dcterms:W3CDTF">2011-10-11T13:40:28Z</dcterms:modified>
  <cp:revision>111</cp:revision>
  <dc:subject/>
  <dc:title>Chapter 12</dc:title>
</cp:coreProperties>
</file>